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16678"/>
        <c:axId val="55500566"/>
      </c:barChart>
      <c:catAx>
        <c:axId val="77916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00566"/>
        <c:crosses val="autoZero"/>
        <c:auto val="1"/>
        <c:lblAlgn val="ctr"/>
        <c:lblOffset val="100"/>
        <c:noMultiLvlLbl val="0"/>
      </c:catAx>
      <c:valAx>
        <c:axId val="55500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16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307-390D-4700-8EBF-C7C312AF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FB1C-1EEC-4D2A-816E-549DDDA8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14C-4985-4D16-90DF-26384890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640-6CB0-4B4D-87BB-3ABC51F5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F90-07EB-47DB-B459-52930952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FF4-4163-45F8-BFF7-21C3876E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CA3-0C8C-4C41-9E9A-5280F0C5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8E37-588F-43BA-9111-9611ED9B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84A0-F3B4-4C73-BF3F-14134857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7ED-0EF3-4CC6-ACD2-432D08E4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04A-7367-49BB-AFDD-BF529FA7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CCA3-2FFF-4201-B3B6-26034151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4C8C4-1F72-454B-824A-AEB62E8299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