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20497"/>
        <c:axId val="25667028"/>
      </c:barChart>
      <c:catAx>
        <c:axId val="60720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67028"/>
        <c:crosses val="autoZero"/>
        <c:auto val="1"/>
        <c:lblAlgn val="ctr"/>
        <c:lblOffset val="100"/>
        <c:noMultiLvlLbl val="0"/>
      </c:catAx>
      <c:valAx>
        <c:axId val="25667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0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9E7-7C9C-4DFE-A262-00C11E1C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025-422F-490B-91B3-4782348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2F8-7194-4263-8305-87CBB3E5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8D9-DAA2-4721-AC6F-D6B1A39D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67D-E92D-4431-9088-7EBE6A6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A21-9F22-47E2-91C5-D7FE437F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8A0-FC2C-4D6B-91E5-3F43BB4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CD9-A684-4843-AAF3-9EF7FB6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A0E-6C97-4E6A-B608-44EBEDF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3A9-38D3-436A-AFC6-5BC692C0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100-8107-44B2-9115-34972FF8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D76-E827-4784-9B16-B29ADC6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1A4B3-3970-42F7-8E6A-CE5612022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