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15486"/>
        <c:axId val="59006266"/>
      </c:barChart>
      <c:catAx>
        <c:axId val="45615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06266"/>
        <c:crosses val="autoZero"/>
        <c:auto val="1"/>
        <c:lblAlgn val="ctr"/>
        <c:lblOffset val="100"/>
        <c:noMultiLvlLbl val="0"/>
      </c:catAx>
      <c:valAx>
        <c:axId val="59006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15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950-4498-456F-9AF1-13F3307F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80C-6B13-451C-8DBA-E3991A5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C84-77F2-4766-8E26-A15FA65C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75E-7C2F-458B-90B8-9111C00C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F2C-23E5-4832-AE15-9D9A1E3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F73-D138-4E63-BBA9-D1645869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8C1-A1EB-4DD2-8FCC-D4991BB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70C-ACA1-4FE5-BF96-BA73E580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83C-A032-4D8A-8C1A-9A2EBBAA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FEF-53F1-4833-B10B-80463AE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7F9-404C-4B5C-B4FA-8A008F7E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FD7-B441-4EF5-AD63-8FECA69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99BA6-255B-4A43-A1DE-EB20226678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