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67881"/>
        <c:axId val="18718004"/>
      </c:barChart>
      <c:catAx>
        <c:axId val="38867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18004"/>
        <c:crosses val="autoZero"/>
        <c:auto val="1"/>
        <c:lblAlgn val="ctr"/>
        <c:lblOffset val="100"/>
        <c:noMultiLvlLbl val="0"/>
      </c:catAx>
      <c:valAx>
        <c:axId val="18718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67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0BF-464B-41DE-BF03-426830A3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A62-E340-4C51-ABCC-AEAACE3B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D55-27F4-42F6-9470-D4E63C31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76B-0A35-4FE5-AC6D-6572B24D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4148-F6E2-4228-918A-30B4564D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8E9-DF1D-4AEA-8B10-394B7DC0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6BA8-C839-4987-AC4E-91724278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653-7EC0-4C58-8740-D26AB31F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2F54-91EC-45E3-AFFF-6D9A4E61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A271-434A-42AF-A2BB-2D2F9E74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66E-7A6F-4974-8078-7E0A6BDB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1F8B-5758-4707-90F2-A04BFADD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93F95-D842-408E-95D8-F62A96190B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