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88534"/>
        <c:axId val="91437056"/>
      </c:barChart>
      <c:catAx>
        <c:axId val="494885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37056"/>
        <c:crosses val="autoZero"/>
        <c:auto val="1"/>
        <c:lblAlgn val="ctr"/>
        <c:lblOffset val="100"/>
        <c:noMultiLvlLbl val="0"/>
      </c:catAx>
      <c:valAx>
        <c:axId val="91437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885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C04-EA5E-43FA-820C-80FF83CC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7EE0-4364-4D74-B6C7-A8CE526A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CE7-D712-427C-9912-498918FD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9AA-E34A-4838-B6F5-A352AB19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1D2-56AC-4D0B-8FCE-576409A7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C4AD-A322-4CAC-B2FE-B2915C37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C914-0ED3-4BF3-8A93-CE583E47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78D-A52D-4DDB-9E75-3E1FE531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9A2-8533-44CD-B2F0-D1D488FD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1AA9-A9E0-4900-AAFF-AF178F8D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4827-D4E9-4FEF-A738-9950A93A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3FD-E9A9-484E-91EA-5DACF4F4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1750D-879B-4597-B139-F8EC21D16C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