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98777"/>
        <c:axId val="57472695"/>
      </c:barChart>
      <c:catAx>
        <c:axId val="68098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72695"/>
        <c:crosses val="autoZero"/>
        <c:auto val="1"/>
        <c:lblAlgn val="ctr"/>
        <c:lblOffset val="100"/>
        <c:noMultiLvlLbl val="0"/>
      </c:catAx>
      <c:valAx>
        <c:axId val="57472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98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6B9-8E9A-455D-9E89-BF02F0B2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027-D237-41B7-A0E9-41A9960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B3B-4B59-44B9-A140-96DB6D72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119-CBFC-4FB9-AFD0-6E73EE88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154-C2DA-450F-A0D6-0B802A12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228-5245-4583-A4D2-46BE275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636-29D4-480F-A7F4-0FEAE6DA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B8C-1C7F-4FDE-8260-EB9D05A8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B00-7D93-41B9-9AF1-708D8B72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8DE-85D5-484D-96E4-33DBFBF3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450-CB19-4AEB-9361-F87CFF1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689-5BB1-4B4B-AAE2-B55AA49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E0440-E391-486E-993F-33D36FFCB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