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04351"/>
        <c:axId val="20760413"/>
      </c:barChart>
      <c:catAx>
        <c:axId val="74004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60413"/>
        <c:crosses val="autoZero"/>
        <c:auto val="1"/>
        <c:lblAlgn val="ctr"/>
        <c:lblOffset val="100"/>
        <c:noMultiLvlLbl val="0"/>
      </c:catAx>
      <c:valAx>
        <c:axId val="20760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04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614-88D7-420E-BF15-DA2F494B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0A5-FEF7-4E60-9BA7-A90F945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D46-5AE5-4611-A0D4-CCE05846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128-466A-4128-B867-FC54FAE3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86B-21B3-4151-B61A-E69440F0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71D-B5D5-4AB7-BB7F-61B194CF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9DC-2AAB-44FF-8AD4-E694406E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54A-5021-46CE-A21A-7988EB7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4A3-C038-4A0E-BE0B-A1031DE4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4AB-4C46-42BF-96FE-84201990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807-A633-4396-80EE-2C722B62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334-194E-4991-A737-DC9DE86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AEA2B-1B27-4294-87CC-ABBBF9186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