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00054"/>
        <c:axId val="65859194"/>
      </c:barChart>
      <c:catAx>
        <c:axId val="34700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59194"/>
        <c:crosses val="autoZero"/>
        <c:auto val="1"/>
        <c:lblAlgn val="ctr"/>
        <c:lblOffset val="100"/>
        <c:noMultiLvlLbl val="0"/>
      </c:catAx>
      <c:valAx>
        <c:axId val="65859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00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4CF-0491-4E71-BBAA-3DA5667D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1E8-11AE-43B1-9A19-A9D44A74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E67-D9E2-46AC-BFDF-FF37A719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B38-0340-4AEB-A84B-4EE672A0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256-D275-4E08-A86E-13BD3B39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F77-B359-4E67-94C9-B5FB7E6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3C3-6BD1-4FBB-84F6-44EB7EA7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17A-79D3-4737-A9B4-622BD70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D7B-1FBF-4498-B7AB-FBBF598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88F-A176-41B8-A329-F8F9B4C4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920-82E9-424A-97EF-BC9F7F8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741-0458-458C-9296-533AD1B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2BF4A-2C1E-420E-8C06-1B2F893E9B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