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39167"/>
        <c:axId val="34954666"/>
      </c:barChart>
      <c:catAx>
        <c:axId val="17139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54666"/>
        <c:crosses val="autoZero"/>
        <c:auto val="1"/>
        <c:lblAlgn val="ctr"/>
        <c:lblOffset val="100"/>
        <c:noMultiLvlLbl val="0"/>
      </c:catAx>
      <c:valAx>
        <c:axId val="34954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39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5B4-38B6-4482-A2EC-BA9CF736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35C-351B-48E5-866D-3EBCADBD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10F-9207-490F-B1C2-193C98FF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D59-0D8E-4616-BFEE-7C6D5016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C76-9F5D-4C88-B555-EC5475D3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7AA-7F7A-4BE3-92EF-550F9B1E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786-F312-4F9D-8C78-D4EE4371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42C0-59B2-4E0B-9FDF-74812F2B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D60-BB7D-45B9-A3C1-3999EDE1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9B2-F90D-42DA-A905-7CFF8CD3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AFAA-1464-416B-94C9-E724A2AB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DE4-328F-495C-BB1F-9BF9C369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21F2F-8B15-47E0-A07B-13CE3A08E2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