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259047"/>
        <c:axId val="77002563"/>
      </c:barChart>
      <c:catAx>
        <c:axId val="992590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02563"/>
        <c:crosses val="autoZero"/>
        <c:auto val="1"/>
        <c:lblAlgn val="ctr"/>
        <c:lblOffset val="100"/>
        <c:noMultiLvlLbl val="0"/>
      </c:catAx>
      <c:valAx>
        <c:axId val="77002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2590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0CFA-A16F-4D05-BBD5-138AAD33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54EE-B20D-4E48-AFFE-58510410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51C3-F6CF-4D56-AF13-C2FCE55A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38D-04DB-4CAC-8DE9-145236F4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28C-E738-4BB8-962C-65AC4359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CB7-B48F-4A7A-BDA6-B356DC6B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E07-B4B4-4A86-B174-4EA344E0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423-A78A-4B1A-BA51-674BF8E8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10A-B09D-4C7E-B3D1-8DB5DF40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9951-92A1-4F3D-AA71-CCF6C78F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EEBF-6060-42BA-8F3F-BA5D5EAA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F75A-DC65-4781-AC4D-467ED6CA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22D68-817A-4243-BA24-FAA6F7A339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