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64169"/>
        <c:axId val="45695068"/>
      </c:barChart>
      <c:catAx>
        <c:axId val="69664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95068"/>
        <c:crosses val="autoZero"/>
        <c:auto val="1"/>
        <c:lblAlgn val="ctr"/>
        <c:lblOffset val="100"/>
        <c:noMultiLvlLbl val="0"/>
      </c:catAx>
      <c:valAx>
        <c:axId val="45695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4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6B2-1F2D-4423-8222-A0DC7937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3F2-6F5E-4E00-8422-D192F02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E84-E3FF-49F7-AA69-FC6F9F0C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6C6-715C-427B-9E1A-DE1C0A4F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D24-595E-43D7-B7A8-F75CCA3C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33A-57CD-4369-B84F-96C9B2AE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8AF-D8BF-4957-8076-843CF8A6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D0E-6ED1-4A61-9BFD-D3CF47C8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3CB-99C2-4575-ACAE-AAE4DB7C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507-585B-4BC5-B133-39065F6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51D-C48A-4667-B7BE-4D7BEE9C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79A-D84D-4353-A1BC-DD264EE5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E9FD5-01A6-4A61-8F7D-D318A51302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