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561428"/>
        <c:axId val="59588362"/>
      </c:barChart>
      <c:catAx>
        <c:axId val="805614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88362"/>
        <c:crosses val="autoZero"/>
        <c:auto val="1"/>
        <c:lblAlgn val="ctr"/>
        <c:lblOffset val="100"/>
        <c:noMultiLvlLbl val="0"/>
      </c:catAx>
      <c:valAx>
        <c:axId val="595883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614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275-609E-422C-AACF-7721CD68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2193-C1FC-4C5E-BC5A-922E02E7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69F6-9790-41B2-A564-AD7DBE88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0DB-31B0-4B9F-83AF-05D15FCB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8525-CC72-46B3-B0DB-643DBBA0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EC22-796A-4B49-9ACA-71AE0F7A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1869-0353-4BE1-B5D5-2EDCDD0A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A2C2-D22B-422D-8F16-D6015A2B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3DC-21B3-4C85-9D97-77039A6C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E17-6667-4935-8625-C33AEADF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6A7-853F-48B0-885B-A5F1CB66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4223-5B5E-4442-A6C2-1509402A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22BF0-AE36-4DAE-91D3-B0F45474BB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