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55377"/>
        <c:axId val="56623668"/>
      </c:barChart>
      <c:catAx>
        <c:axId val="61255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23668"/>
        <c:crosses val="autoZero"/>
        <c:auto val="1"/>
        <c:lblAlgn val="ctr"/>
        <c:lblOffset val="100"/>
        <c:noMultiLvlLbl val="0"/>
      </c:catAx>
      <c:valAx>
        <c:axId val="56623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55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B80-513E-40E3-BCDD-C3FA7112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52D-8DB7-4163-B465-F288F079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7A5-5F03-4027-8473-3B4BA08D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BBEB-C393-46FC-A8BC-C1BEA95E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35FB-CFCC-4D8C-A2F4-993653B7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CB7-109D-4B66-AAAC-428DC176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213-38B9-46A1-8A7D-270A55EB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95D4-784B-4D09-9D37-EF3A9573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DBF6-0887-48B0-8460-A754BC0B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75D-ECAB-44D7-B0E6-2F522DAE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C69-CAC3-4A99-82E1-81079690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D53-C63D-4F7B-BFF4-0ECA0A18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FE9A6-96B8-478F-BE75-460BF14E8A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