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9123905"/>
        <c:axId val="12240334"/>
      </c:barChart>
      <c:catAx>
        <c:axId val="2912390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240334"/>
        <c:crosses val="autoZero"/>
        <c:auto val="1"/>
        <c:lblAlgn val="ctr"/>
        <c:lblOffset val="100"/>
        <c:noMultiLvlLbl val="0"/>
      </c:catAx>
      <c:valAx>
        <c:axId val="1224033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12390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E2FE-1839-4413-9EBC-6EB3268AF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83C3-69B3-418D-B74F-FBF8DFB6D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626B-CB88-41D5-A086-965B96348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4ADC-66C0-4036-AEB4-20CD6D39F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CFEF-797B-46EC-A9C7-C6C1C3532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10D2-033E-4EB0-94E7-BCAE8542A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3219-412B-4103-8FD6-4DAB43727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B0FD-B6FF-4088-A07B-7AE77BC5B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24C6-64B7-4544-A551-BDCCD8B97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C61A-0B8D-43A5-8F93-5EA256CB2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501A-C678-48E5-8B2C-4A4C0D1A8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00F0-84CC-4B2F-BAED-07D25845B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2AF709-5E80-46A9-B202-FECB582C7C7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