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56841"/>
        <c:axId val="71594177"/>
      </c:barChart>
      <c:catAx>
        <c:axId val="51656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94177"/>
        <c:crosses val="autoZero"/>
        <c:auto val="1"/>
        <c:lblAlgn val="ctr"/>
        <c:lblOffset val="100"/>
        <c:noMultiLvlLbl val="0"/>
      </c:catAx>
      <c:valAx>
        <c:axId val="71594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56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2B4-04C6-42E2-9D51-4C4A6CA5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E49-A176-498F-AE60-9538CE7B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5D8-2CD4-44B0-B5B8-C541694B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6A0-FDF1-4E9C-8756-67D85EBD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88F-237E-40D4-B2EC-25B2DA75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F60-4775-40FF-A2C5-DC085FE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6FB-DAEC-40B8-9FA0-A4A37726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D33-5E28-4175-A6C8-6AC34F97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9B1-977F-45BC-8648-35A05FA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151-2629-445B-895B-0048A26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7AE-AF2F-48E2-A9B6-CFE1816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968-6FBB-41EA-8691-B2EB56C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F4A2A-29BA-41CD-A7C6-FFC593E48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