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3074821"/>
        <c:axId val="63894795"/>
      </c:barChart>
      <c:catAx>
        <c:axId val="6307482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894795"/>
        <c:crosses val="autoZero"/>
        <c:auto val="1"/>
        <c:lblAlgn val="ctr"/>
        <c:lblOffset val="100"/>
        <c:noMultiLvlLbl val="0"/>
      </c:catAx>
      <c:valAx>
        <c:axId val="6389479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07482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A0F13-8920-420A-9A4E-5AB014DB1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3C6C6-8E8E-405C-AA58-F69B52A4A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AB95E-26D6-4783-B653-A17C7D809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32508-C06C-40C3-A1D1-8C12138BC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8350E-E3F6-4EC7-8641-606469B6F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2E151-9EDF-416F-B925-D035F907B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5615A-8D35-4408-BD79-C2C5BB65F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DF2DC-9355-4F45-8048-F0E1EF15F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6717E-67E2-42E5-912D-276ECD4A6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E8A0B-17DD-4EA8-B57B-71E1F4E03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5F1A0-0B9E-49A6-8EC4-03E7A45CE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43C64-92F9-49B8-9C1D-E4EEB44E2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B4E24E-2694-4CA4-B5ED-9D9B97A3EC3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