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9151236"/>
        <c:axId val="85330705"/>
      </c:barChart>
      <c:catAx>
        <c:axId val="8915123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330705"/>
        <c:crosses val="autoZero"/>
        <c:auto val="1"/>
        <c:lblAlgn val="ctr"/>
        <c:lblOffset val="100"/>
        <c:noMultiLvlLbl val="0"/>
      </c:catAx>
      <c:valAx>
        <c:axId val="8533070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15123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F77C7-14EA-40E6-86A2-57170EEF5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F4218-F913-4F79-97B5-DCB5E3B1D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60390-DC12-4CD6-95F4-C2EB6A97A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A1C51-72C4-433F-B885-2ADD4F56A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37817-D65D-4F4B-9EE8-500A8D128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21864-0DDE-48D7-A08F-5994B77A7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539B4-4E09-4259-A636-E521C8E50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18421-028B-42FC-BC86-2A57E5BC9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164E5-E77C-42E1-8DB1-1EF720D32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B83B1-A4CF-4DD5-93BA-AEEB65213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E7AE1-0358-48C1-86F1-6E7F31BB5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EBD63-F610-472A-B030-BC7F9669C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EE9BA9-3744-461A-AB47-575F5923D45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