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2347"/>
        <c:axId val="62037934"/>
      </c:barChart>
      <c:catAx>
        <c:axId val="66732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7934"/>
        <c:crosses val="autoZero"/>
        <c:auto val="1"/>
        <c:lblAlgn val="ctr"/>
        <c:lblOffset val="100"/>
        <c:noMultiLvlLbl val="0"/>
      </c:catAx>
      <c:valAx>
        <c:axId val="62037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2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BFB-C3FE-4A0D-B45C-6C49FE7F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FC5-5D0D-440B-BC6D-E5145DF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BE-261C-450C-8701-044162E6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B8C-D768-4E76-B982-2B60A6F9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5CC-FE79-4415-A803-ADEB19A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AE5-B805-4AB3-BE9B-86DDA4A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D18-0F63-43A5-B29B-5C52608F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1B4-03AC-4C80-89B8-5628346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154-A402-4049-82BA-5150026B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131-748C-4175-93CE-FA57063A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326-4B31-4BF3-904A-B8E27E3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D82-2532-4B63-8AD3-6ADCA6A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26D5-0BAB-4F87-AE64-3649674F22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