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60493"/>
        <c:axId val="70833937"/>
      </c:barChart>
      <c:catAx>
        <c:axId val="81260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33937"/>
        <c:crosses val="autoZero"/>
        <c:auto val="1"/>
        <c:lblAlgn val="ctr"/>
        <c:lblOffset val="100"/>
        <c:noMultiLvlLbl val="0"/>
      </c:catAx>
      <c:valAx>
        <c:axId val="70833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60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C86-77F2-4244-8418-B28BE79B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348-86F5-4FC2-A61C-D2FFDFD9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5F4-8347-41F7-8DB4-BA3B74BE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C67-5C58-43B5-8658-68A5B707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B17-00A5-4D15-8203-C0151ECA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8CC-F6DF-43C0-97CE-D755D638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64C-519E-4E5A-A9F6-F5B07BFF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6AD-89F7-4729-AF54-1D240775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161-C25E-4499-9BEB-5E6AE2CF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904-F06D-4FF5-BA76-D52B4019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F00-0B39-41C0-9427-00139D8F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5B5-76D8-434F-84DE-4A61F33D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6DE3C-0C23-4737-A6B2-86CD8D288B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