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75016"/>
        <c:axId val="39536452"/>
      </c:barChart>
      <c:catAx>
        <c:axId val="69975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6452"/>
        <c:crosses val="autoZero"/>
        <c:auto val="1"/>
        <c:lblAlgn val="ctr"/>
        <c:lblOffset val="100"/>
        <c:noMultiLvlLbl val="0"/>
      </c:catAx>
      <c:valAx>
        <c:axId val="39536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75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13B-527F-4820-88C6-B5DAF37F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CF7-CB18-4DEB-A067-B41148D8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908-D737-4464-912A-E97F97B5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5F2-FCCE-46FE-ADD7-EABF69A9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BE7-E3B2-43F4-8E0A-B95F19E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D72-B95D-4CA1-B239-07AEFBD1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A43-458F-4CC6-86DF-0935525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64D-9FD6-4C5A-A73C-2E5895A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72B-3093-49AF-BF72-AE513DB9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2FA-1BA9-4538-ABAD-3C76607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292-6C5B-49F9-8906-A9E695C5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C48-B124-46BF-AC4A-237EC42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8E22E-F894-4844-B18E-FD40623DAF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