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99974"/>
        <c:axId val="64043752"/>
      </c:barChart>
      <c:catAx>
        <c:axId val="90199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43752"/>
        <c:crosses val="autoZero"/>
        <c:auto val="1"/>
        <c:lblAlgn val="ctr"/>
        <c:lblOffset val="100"/>
        <c:noMultiLvlLbl val="0"/>
      </c:catAx>
      <c:valAx>
        <c:axId val="64043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99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ABB-7FF7-4217-9347-76AE086C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6ED-08E4-45F7-9A81-F1CA809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B99-E20B-476A-8889-4A7B7ED8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37A-F65A-4A15-A3C1-D0401E26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E9D-9AA5-4C1C-AB03-A737BFFD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E4F-6D8B-470F-BE4A-C16B684F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243-CB64-4C90-A2F9-8D505F1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455-A5DB-405C-B464-12F836A0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619-325B-470A-BC93-7CBDA29C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476-C6C1-47A5-B52A-18B1F01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0CD-FD96-4D3E-ABDF-EB5C952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A58-20CE-402C-A0E5-C8C06F4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36678-775A-4D78-9E99-8D39548BF8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