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831468"/>
        <c:axId val="90907777"/>
      </c:barChart>
      <c:catAx>
        <c:axId val="178314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907777"/>
        <c:crosses val="autoZero"/>
        <c:auto val="1"/>
        <c:lblAlgn val="ctr"/>
        <c:lblOffset val="100"/>
        <c:noMultiLvlLbl val="0"/>
      </c:catAx>
      <c:valAx>
        <c:axId val="909077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8314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4891-6326-4820-B21F-4CB9F412A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6E1D-BCE1-4BBE-BF89-5E213AEE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ED55-17FA-4686-BE4D-4A33D8CFE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2A8A-8760-425E-8B24-48304BDB1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2370-35F0-472F-A07E-C5F6CEEC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9ED1-88A9-48A7-BF02-835C845A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05E7-0DDB-4840-BC26-64FCE859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C976-DDAA-40FC-8088-FE1EB560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F869-2597-43E7-AD76-E5FE70BD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9CE4-F116-49D3-9DC2-5970D1AB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7071-FF80-4CCF-A924-64D944AE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8B84-0531-46BF-8213-C1A870E5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EC5D67-8766-463A-A9AF-816B827A2D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