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16911"/>
        <c:axId val="60509435"/>
      </c:barChart>
      <c:catAx>
        <c:axId val="82416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09435"/>
        <c:crosses val="autoZero"/>
        <c:auto val="1"/>
        <c:lblAlgn val="ctr"/>
        <c:lblOffset val="100"/>
        <c:noMultiLvlLbl val="0"/>
      </c:catAx>
      <c:valAx>
        <c:axId val="60509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16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BDF-A0F0-43C9-923E-41E1D9A93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689-2598-4483-BB24-FF17FA4F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EB3-3DC2-4F4C-9F6C-F3353F0E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8A14-8542-41F5-A7A7-5529B704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9B8-AB6D-4ACC-A41B-2D77FDB8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801-F7B8-44AF-AA23-BE2EEFC4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0C11-8B9C-40BF-8B7A-74634A2D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6E9-532A-4582-ABA3-283C0FFA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134-928C-444B-B5BD-173C1959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DA2-6D45-4AAD-A0A6-D625BD02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A45-71B3-499B-B48B-3CC08BFF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494-5795-4936-8D02-A4C9D414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C21A0-DCA5-4BD3-B559-E8A5BFBE29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