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1657"/>
        <c:axId val="42039225"/>
      </c:barChart>
      <c:catAx>
        <c:axId val="1551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9225"/>
        <c:crosses val="autoZero"/>
        <c:auto val="1"/>
        <c:lblAlgn val="ctr"/>
        <c:lblOffset val="100"/>
        <c:noMultiLvlLbl val="0"/>
      </c:catAx>
      <c:valAx>
        <c:axId val="42039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1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171-6D9A-417A-91EE-2F7C3AB9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63E-EDCB-4609-8E58-CC7C6043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E66-59BA-46CF-8994-9E652A22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292-6DAB-4339-8437-39CAA0F9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729-E0D2-43CE-9C9F-8C745C2A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5EE-04C2-4818-88FA-84380991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BCA-FA39-4E40-9EFC-516BDA78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0F0-9D27-4311-9D5F-573469EB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E14-DE40-416F-8EA0-0282760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692-84F3-4A6C-92D7-5414C91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ABE-06AF-4FFB-BF48-418C11BE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3C1-9E7F-4908-BD8C-19CB156E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7E1B2-1DEA-4C94-BA89-0BDF3E89E5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