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14088"/>
        <c:axId val="78920897"/>
      </c:barChart>
      <c:catAx>
        <c:axId val="12714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20897"/>
        <c:crosses val="autoZero"/>
        <c:auto val="1"/>
        <c:lblAlgn val="ctr"/>
        <c:lblOffset val="100"/>
        <c:noMultiLvlLbl val="0"/>
      </c:catAx>
      <c:valAx>
        <c:axId val="78920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14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EF2-E372-4D6C-A81B-582054D9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285-F930-4A97-8397-1E641A07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3FC-6E11-4100-800B-C9E1CB33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9FA-6278-464F-AFE7-B66DFE16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BB4-A51B-4A99-BF23-BAFCFBC7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E1D-2E05-4691-9D54-B54F6FB4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542-A746-40D0-8AA5-74EAF7AA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CA8-07CA-4C37-BC8E-AD103D19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45E-C2E9-455E-9F48-55C430C6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E80-8FFC-463B-85A2-923932BA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B8A-5F9C-443C-916C-74DF56CC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BB8-6B6C-4248-BD36-B3DBF624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F08CD-EB0E-4FFC-9FB4-01860A27E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