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61768"/>
        <c:axId val="28861403"/>
      </c:barChart>
      <c:catAx>
        <c:axId val="10561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61403"/>
        <c:crosses val="autoZero"/>
        <c:auto val="1"/>
        <c:lblAlgn val="ctr"/>
        <c:lblOffset val="100"/>
        <c:noMultiLvlLbl val="0"/>
      </c:catAx>
      <c:valAx>
        <c:axId val="28861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61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BB1-F408-4854-92C4-C8F65B37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910-2AE8-4720-8CE3-43C4C68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922-9D9A-4B00-A17F-CFBC929D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EA2-8A7C-4C4E-8189-0BD30814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57C-D164-4C66-97FA-8D27A700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4B8-60FB-40F8-9E4E-4A7D4CC9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149-3CBF-4676-BF84-C51BD06E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EA6-9545-406D-878F-81403ACE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2C8-F853-4FE8-9E23-A64753BE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D43-C155-46E5-B5A3-1E7930C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38B-E373-4EA8-B86D-0B29857E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180-889B-4426-9213-30AA9030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6F12E-2384-43E7-865E-AA84013E70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