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78641"/>
        <c:axId val="77325575"/>
      </c:barChart>
      <c:catAx>
        <c:axId val="99378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25575"/>
        <c:crosses val="autoZero"/>
        <c:auto val="1"/>
        <c:lblAlgn val="ctr"/>
        <c:lblOffset val="100"/>
        <c:noMultiLvlLbl val="0"/>
      </c:catAx>
      <c:valAx>
        <c:axId val="77325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78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4CE-7CE8-4C36-8DDD-E7B9C407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F68-1487-4568-9E73-0C99E48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211-10A4-4FC5-ACBA-B0DF05E3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417-511D-4336-813B-13B064B0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F5E-C97E-4F2C-9685-179C38D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ACB-60A6-48A2-B12C-743469FD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34C-EE3F-4459-8E44-06579C5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D22-08DD-4A6A-8FB8-F74464C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D99-EEF0-4D45-8E81-162D0DC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F3A-4C30-4F3E-8FF9-51C7EE4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0CD-5BE7-47F3-941A-2B9DCE8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0B3-272B-46FD-84C7-3F80A96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F223-90B6-4BD4-9189-484B45C44C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