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852007"/>
        <c:axId val="13175932"/>
      </c:barChart>
      <c:catAx>
        <c:axId val="468520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75932"/>
        <c:crosses val="autoZero"/>
        <c:auto val="1"/>
        <c:lblAlgn val="ctr"/>
        <c:lblOffset val="100"/>
        <c:noMultiLvlLbl val="0"/>
      </c:catAx>
      <c:valAx>
        <c:axId val="131759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520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E156-20F2-4DD8-8758-BD82B5F2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C5AD-50B9-4297-9762-857CB94A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15C4-C158-45C9-82B1-31F36914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9F88-4BFF-4AA6-9462-16592696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FB93-1AE8-44EF-86A5-93737DE4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B9DA-D3D4-4E4B-BB2B-CE80A9BD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DA07-00DF-48EE-A21D-B055A694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D045-0DDB-47BD-B336-AE4AD92A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A206-068C-457E-8F3E-63694880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A70A-5A70-47AF-A865-51322BD6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B176-DDB6-40B2-87D7-9959FCAB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82E3-ECE4-4D2D-8D79-FE2B6A2C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DC722-9CA6-47E7-A139-00EC48DF05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