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52556"/>
        <c:axId val="34030319"/>
      </c:barChart>
      <c:catAx>
        <c:axId val="85052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0319"/>
        <c:crosses val="autoZero"/>
        <c:auto val="1"/>
        <c:lblAlgn val="ctr"/>
        <c:lblOffset val="100"/>
        <c:noMultiLvlLbl val="0"/>
      </c:catAx>
      <c:valAx>
        <c:axId val="34030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52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ADC-D7F4-43D2-B91F-96BCFB93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A27-9F6D-4570-AF9D-1FD971DD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03F-D90F-4774-8232-8ED33DD8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9F9-8F94-4E86-9D24-5AF513A3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790-B55E-45D5-8FA0-0094555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062-8760-42D8-B3BE-480083F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183-FE53-4935-83CC-D5160269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CF0-75E6-4D67-93A8-716A4DD5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293-7812-40FF-AF9A-A638738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E09-D2E0-4646-8B97-40B4230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FBF-2E72-4FB1-9FF2-7BB8CDE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ECA-0584-4F8F-8F60-7D3530EA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52DB6-6F2F-44F3-A5D3-C12150345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