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83122"/>
        <c:axId val="70707125"/>
      </c:barChart>
      <c:catAx>
        <c:axId val="24183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07125"/>
        <c:crosses val="autoZero"/>
        <c:auto val="1"/>
        <c:lblAlgn val="ctr"/>
        <c:lblOffset val="100"/>
        <c:noMultiLvlLbl val="0"/>
      </c:catAx>
      <c:valAx>
        <c:axId val="70707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83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451-82C7-42E5-A3E7-43958EB8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E4D-EF4A-48BF-BB21-00E78974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094-538B-4D5B-B814-F8FEDC41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AF1-8AD0-48FF-9543-3E751D70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169-E20F-4036-BDD6-EB054F96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984-5F54-4E48-8B9E-1B7F9526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A79-770C-4A4C-B8CA-5A6539FA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147-F61A-44B3-8CB7-8E9A5B74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DD3-4F64-400A-90B2-52EBEFF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1F2-DB79-496A-B01E-A859C78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766-99A8-472A-BC05-1B9D639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CAF-24A8-4FCA-A9C6-E8E8291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47313-6FE4-4DB3-9B68-BA6AD5471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