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97198"/>
        <c:axId val="55781353"/>
      </c:barChart>
      <c:catAx>
        <c:axId val="746971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81353"/>
        <c:crosses val="autoZero"/>
        <c:auto val="1"/>
        <c:lblAlgn val="ctr"/>
        <c:lblOffset val="100"/>
        <c:noMultiLvlLbl val="0"/>
      </c:catAx>
      <c:valAx>
        <c:axId val="55781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971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B92-C6DD-44B2-A79C-E3ADE632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2C2-E691-4D67-9E9B-662991A1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6BB-0088-4AF7-89A5-0BD7AE28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0A5-E89A-4086-A3D8-4D9F4F85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4D3-7D53-45BC-A78A-1CE85AE6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D3E-86C9-48C0-B44C-FC7C10A6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69DA-12F3-4E91-8C59-C1A98911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F8B4-AF62-4BD6-B3A3-D577FEAE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B774-2C32-4C0A-A67E-901315DA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513-128E-4403-B823-4B822921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1B5-DF15-4348-867C-1F51F4ED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8CE-7F87-4B0F-B044-5B1B81E7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687D6-A6D2-4F42-A075-E01BB2A6CC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