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26463"/>
        <c:axId val="66037969"/>
      </c:barChart>
      <c:catAx>
        <c:axId val="55726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37969"/>
        <c:crosses val="autoZero"/>
        <c:auto val="1"/>
        <c:lblAlgn val="ctr"/>
        <c:lblOffset val="100"/>
        <c:noMultiLvlLbl val="0"/>
      </c:catAx>
      <c:valAx>
        <c:axId val="66037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6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7F9-E96A-4F64-AC27-4EE2EA0D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915-7AD5-4DAF-BC06-78101DD6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538-ABB8-47BF-8062-6F97384D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E3E-97E1-4E23-A243-6B273BD8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746-5D5B-48E1-B98D-6D74CE62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F7A-6842-4523-AFDA-9C0436C8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1BE-E312-4273-BE9A-88669FA5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A6F-4E98-4398-A9E0-ABEC90A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F98-2795-4798-A257-A8F5839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EE5-9E0F-483E-B822-1FFFCD2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665-09DC-4BD8-903E-7DDB006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A48-6103-4325-8E4F-EEEC0ED1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D2545-F30B-425E-8ADA-265A87BF76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