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6966"/>
        <c:axId val="2921015"/>
      </c:barChart>
      <c:catAx>
        <c:axId val="966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1015"/>
        <c:crosses val="autoZero"/>
        <c:auto val="1"/>
        <c:lblAlgn val="ctr"/>
        <c:lblOffset val="100"/>
        <c:noMultiLvlLbl val="0"/>
      </c:catAx>
      <c:valAx>
        <c:axId val="2921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C1C-009C-4612-B988-A6A8D393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D32-D9E4-46FD-A5A0-47A4DF29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CCDB-0D57-4BDB-B4E3-0F55E903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E4D-CCB3-4D6D-A4DF-6039A023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D48B-5671-4809-AA8B-BC4FBF95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F90-CACA-4F30-B74A-4D8B807C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4C02-D895-4F83-9481-ECF27BB8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2FE2-CF20-4875-8CE9-B743BA34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AEC-C95B-4278-832F-E67B84C0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192-C15F-4858-AEC6-B05A4ACA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913-92B8-4320-915F-69ABD95F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B46-7998-407F-A760-466F9F6A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D958F-CA84-4BFE-97FD-17BDA6AEC5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