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743267"/>
        <c:axId val="28105985"/>
      </c:barChart>
      <c:catAx>
        <c:axId val="227432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05985"/>
        <c:crosses val="autoZero"/>
        <c:auto val="1"/>
        <c:lblAlgn val="ctr"/>
        <c:lblOffset val="100"/>
        <c:noMultiLvlLbl val="0"/>
      </c:catAx>
      <c:valAx>
        <c:axId val="281059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432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2993-7BE1-4A49-8B09-B2F7D07B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DC0C-DC08-4721-A835-50CDE91E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EFAA-7DD6-4F8A-B40B-21F4D371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0D7-2E16-4012-8B4A-F971E46F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8A12-6BE9-45EA-96B5-075233A5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E8B8-D9E6-47B7-B048-1987D57E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6D25-238C-4621-BAEC-E27EDB52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08F9-7EB0-4E46-ADDA-4B2DDB44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4922-A2E8-4D4B-A6F0-C30A25F0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9D50-CFE8-475B-8576-58D13532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2156-9BCC-4B99-976B-C914206F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2C88-FF89-40BD-9683-6248E431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FCCA8-AF64-4E76-BDC1-4AEAEAAE41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