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61542"/>
        <c:axId val="43038386"/>
      </c:barChart>
      <c:catAx>
        <c:axId val="79361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8386"/>
        <c:crosses val="autoZero"/>
        <c:auto val="1"/>
        <c:lblAlgn val="ctr"/>
        <c:lblOffset val="100"/>
        <c:noMultiLvlLbl val="0"/>
      </c:catAx>
      <c:valAx>
        <c:axId val="4303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1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A6-6244-4BB1-A39C-2117D546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4F9-7C4C-46CE-8E5A-A27E50BB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585-DC74-4C62-8FED-26295C7D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48D-D25C-4A19-91A9-AA8346A9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536-A286-4C6B-B065-EAC3548A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8D1-9449-4FFD-96D5-5985688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166-93CB-4F63-AFFC-75DE7ED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261-83F3-4DDE-8C5C-EEF616E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E13-8FC3-40A1-948C-3382ACB6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DFF-1D82-4ED5-8496-6F1C596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A6E-E122-450E-B045-1D883E1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412-6071-41E7-8E64-FA1CBD3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C74AD-8889-49FE-8E5D-A92B32DD36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