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668101"/>
        <c:axId val="35991627"/>
      </c:barChart>
      <c:catAx>
        <c:axId val="686681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991627"/>
        <c:crosses val="autoZero"/>
        <c:auto val="1"/>
        <c:lblAlgn val="ctr"/>
        <c:lblOffset val="100"/>
        <c:noMultiLvlLbl val="0"/>
      </c:catAx>
      <c:valAx>
        <c:axId val="359916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681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9CE1-1900-49AA-BE1B-85CF6D5C2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9CBE-AB22-4E0E-BD5B-CF45374A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C2C-6CE9-41F7-8B35-49E96381D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2F87-10C7-4FF2-9F3D-42070E79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A9E9-6233-40B6-8B79-75E69885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F3F-C7AA-4FCF-909B-62ADD985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689B-DE1E-44B2-B48F-807B54776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BC8C-4EFE-458F-93A1-4BFF123F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FFC7-90F4-467C-9370-037767BE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D78E-24C8-4BD3-B51E-84DD6918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6E16-1AAC-4348-888D-9213CA70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B10-3DF2-438B-AD02-F56B0E5D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BD279-68A4-4971-8EED-DECF664A70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