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60693"/>
        <c:axId val="16524916"/>
      </c:barChart>
      <c:catAx>
        <c:axId val="55360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24916"/>
        <c:crosses val="autoZero"/>
        <c:auto val="1"/>
        <c:lblAlgn val="ctr"/>
        <c:lblOffset val="100"/>
        <c:noMultiLvlLbl val="0"/>
      </c:catAx>
      <c:valAx>
        <c:axId val="16524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0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F3B-21DB-48E3-82AE-6BD0856E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968-5343-40AC-BC99-6C13B643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5AA-7B63-4446-BFC3-C3DE9904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D78-A004-47E0-8D64-4114D57F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7FF-3CB5-423C-A928-77F88A8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FC5-5DF9-41E0-8A57-18E617D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E20-5B46-49F9-8482-D177776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80A-F110-4C51-877B-4B6CFAD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63B-D180-4C18-B72F-21B619B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400-6C9A-4066-8336-2B4C09B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7AD-FB44-4F5C-9A6E-09E2224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8E5-13BE-46C2-8634-20DDC395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F8EAD-8EC9-4A78-A82C-6891DF1446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