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08200"/>
        <c:axId val="15784644"/>
      </c:barChart>
      <c:catAx>
        <c:axId val="47808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84644"/>
        <c:crosses val="autoZero"/>
        <c:auto val="1"/>
        <c:lblAlgn val="ctr"/>
        <c:lblOffset val="100"/>
        <c:noMultiLvlLbl val="0"/>
      </c:catAx>
      <c:valAx>
        <c:axId val="15784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08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9A2-377A-4BA4-A125-6920FC7E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022-85E2-4604-8D1A-46553556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A2E-9A67-4E82-B034-A4E10A73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9DF-7ABF-496F-B83A-E9C4DCBC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EB9-E4BF-40AF-B637-BC20C22C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45B-AB4C-4F41-8856-E7519858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B52-3F29-4C32-AF06-07A8651E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18D-17D9-43C6-9F15-0E4A0848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F06-BA28-4107-A08A-FFAC7897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F4A-D6AF-497E-BCB8-BC6557FA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9E0-9E97-4122-B9E0-ABD71DC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39C-80A2-4C84-981E-E8DAE82A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7D55E-9D53-4B76-BA63-970CC97964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