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86831"/>
        <c:axId val="41919940"/>
      </c:barChart>
      <c:catAx>
        <c:axId val="74886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19940"/>
        <c:crosses val="autoZero"/>
        <c:auto val="1"/>
        <c:lblAlgn val="ctr"/>
        <c:lblOffset val="100"/>
        <c:noMultiLvlLbl val="0"/>
      </c:catAx>
      <c:valAx>
        <c:axId val="41919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86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7F7-5F9D-49A8-AB69-2B74BC03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F2F-9C9C-4CE4-8278-6210905A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2FB-D5BB-45EE-9300-CC10F909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039-8B13-4542-B1FE-8332189C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0E4-DD2F-41C4-8FFA-E640707C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31C-A71C-4C65-8A90-663C9754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54B-992D-4D4A-940D-1250DCC5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3DA-3EE1-4099-A3B9-F0954FA2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DB5-0D7D-4CC3-92F4-A7D1469A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7C8-16E0-43C3-9D57-17B1394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4D2-BC10-4619-8AEF-4CF35C4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539-A984-4309-85EA-3449E59E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7541D-ECE3-430B-9800-CDF00A6A0F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