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67251"/>
        <c:axId val="95851184"/>
      </c:barChart>
      <c:catAx>
        <c:axId val="54867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51184"/>
        <c:crosses val="autoZero"/>
        <c:auto val="1"/>
        <c:lblAlgn val="ctr"/>
        <c:lblOffset val="100"/>
        <c:noMultiLvlLbl val="0"/>
      </c:catAx>
      <c:valAx>
        <c:axId val="95851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67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E10-7B7F-4E1E-88B1-507598F8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65B-0041-4EB6-9B3E-0323A4D3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A98-533D-46F5-9BE7-1CF1E22A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876-3F41-4C4C-9A8C-D9FD3F5A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E09-7927-4C28-AF72-29CAC122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2DD-D0AA-4973-B0C5-560FF2B8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67E-14DA-4522-95C3-3F47A4D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3E6-3099-43DA-A5CC-D44A27B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328-3F74-4EE1-854B-16E26303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65D-0A73-4320-8FE3-CE45051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D1A-F2C1-4943-B1EB-D39EE1E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96B-4DA0-428B-AA2D-90E8116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48834-238E-4AD1-BB6C-9994C9E4E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