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3495"/>
        <c:axId val="48478083"/>
      </c:barChart>
      <c:catAx>
        <c:axId val="8763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78083"/>
        <c:crosses val="autoZero"/>
        <c:auto val="1"/>
        <c:lblAlgn val="ctr"/>
        <c:lblOffset val="100"/>
        <c:noMultiLvlLbl val="0"/>
      </c:catAx>
      <c:valAx>
        <c:axId val="48478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3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EC2-69C0-431A-AD21-96199C44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EC8-F8BE-4174-8A20-E7A15E1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12F-CA07-4E14-AB6E-91C7644E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C97-5916-4B76-9158-9D210E6F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285-3AA8-45E6-A5EA-15B0819D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F9B-F055-4943-8744-1E610F8B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1C1-0F88-4849-A105-DCCA16E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16C-A0D3-4455-AD11-D89225DF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D35-C0BF-4561-A3C7-2B905B0D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AF5-9C04-4076-AE27-C26F02F0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289-2153-4563-9E04-139FECF1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21E-5B67-4237-A612-31A8EF13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0D69C-A8A3-44C1-A6D7-9208A422A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