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27896"/>
        <c:axId val="72363019"/>
      </c:barChart>
      <c:catAx>
        <c:axId val="30627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63019"/>
        <c:crosses val="autoZero"/>
        <c:auto val="1"/>
        <c:lblAlgn val="ctr"/>
        <c:lblOffset val="100"/>
        <c:noMultiLvlLbl val="0"/>
      </c:catAx>
      <c:valAx>
        <c:axId val="72363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27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742-851B-4C96-828E-5CC9B407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E77-911E-491D-9B6B-63C3A6A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526-9238-4B56-BA84-531C576B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6D5-46E9-45ED-AD68-F3FAECB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4FE-455A-4D79-8B0F-C97B00C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3B3-556A-499E-9FC7-C7553A4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10B-9B86-4847-B9FA-EE5FB63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08E-1257-42E7-AC7C-3CA2B3A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5B4-220F-4D3A-8CCF-68ED879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209-443E-4E14-B970-C7995E93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DCD-32FB-4511-A84E-A41BF33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23D-717B-4037-AE84-C899681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BDAC-F6DA-402F-B30C-4F8FD4EDC2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