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08681"/>
        <c:axId val="33791580"/>
      </c:barChart>
      <c:catAx>
        <c:axId val="76308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91580"/>
        <c:crosses val="autoZero"/>
        <c:auto val="1"/>
        <c:lblAlgn val="ctr"/>
        <c:lblOffset val="100"/>
        <c:noMultiLvlLbl val="0"/>
      </c:catAx>
      <c:valAx>
        <c:axId val="33791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08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AE5-6887-4C48-90AC-2846794E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6B3-92D9-4B91-8FEA-C4A0180C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7C2-DECD-47A2-B6F5-B673D3E5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051-6C8E-4277-8B1D-D0B0380C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997-FE80-4862-95BA-63E7A2AD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39C-7FFB-413D-A568-23E0E508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FDF-1615-4743-8423-0CB89659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FF2-8F24-4F70-B520-4FF24993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76A-F9AD-46CA-9F81-70AC6C7C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221-03C9-4F3C-A953-91FDFA4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B5C-6D8D-4E19-8C67-83C09F97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7B7-B601-428B-BE73-E93ECB35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05BF4-2A4C-45C0-B892-BFA4662D9E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