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30232"/>
        <c:axId val="81809346"/>
      </c:barChart>
      <c:catAx>
        <c:axId val="75830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09346"/>
        <c:crosses val="autoZero"/>
        <c:auto val="1"/>
        <c:lblAlgn val="ctr"/>
        <c:lblOffset val="100"/>
        <c:noMultiLvlLbl val="0"/>
      </c:catAx>
      <c:valAx>
        <c:axId val="81809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0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7C6-5EC8-4314-AA2E-30B59D32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4D3-71DC-4DDA-B476-4E44DE8E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1DF-AC0A-4318-948C-EBF0636D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A82-CDE3-4528-8F64-ED6FB141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017-8D12-4E47-B127-E5B8207E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AC9-3985-4658-B283-CA564BC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30A-AFF9-4E8D-96D2-AA756BB6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E5B-A36E-4AB9-8A56-321513E7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A42-2A5C-4505-83F7-067E1FC7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572-8945-40CF-8AB5-5262EA4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E58-6F6E-47E7-B4CB-F167F43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32E-C076-4F39-9804-8E65AC3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5B737-22CB-4495-85FD-2E51EF76ED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