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37464"/>
        <c:axId val="62877295"/>
      </c:barChart>
      <c:catAx>
        <c:axId val="69437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77295"/>
        <c:crosses val="autoZero"/>
        <c:auto val="1"/>
        <c:lblAlgn val="ctr"/>
        <c:lblOffset val="100"/>
        <c:noMultiLvlLbl val="0"/>
      </c:catAx>
      <c:valAx>
        <c:axId val="628772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37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36D8-B6F8-4634-9FAE-9814E71A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958A-4467-4B38-BB72-16D4F94D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698C-6587-4065-88CC-F8559DBB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B6D-6539-4E14-93C2-E230AA53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8DC-7140-4B86-B23A-EF4D211C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9626-11C4-4006-962A-7E5846FC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F516-2A28-4882-B2F8-80F68255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3E3-CC98-4781-AF78-F6239AA5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CDDB-2E0E-4018-B679-E2876114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313E-AB78-435E-9AE3-386F9BAA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1C9-3B12-453B-B6FD-2FDA48E9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60C-7DC3-4D45-8331-67B5565E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70D75-BC4D-4FF8-B33C-896C1EFAAF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