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36735"/>
        <c:axId val="87131005"/>
      </c:barChart>
      <c:catAx>
        <c:axId val="91736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31005"/>
        <c:crosses val="autoZero"/>
        <c:auto val="1"/>
        <c:lblAlgn val="ctr"/>
        <c:lblOffset val="100"/>
        <c:noMultiLvlLbl val="0"/>
      </c:catAx>
      <c:valAx>
        <c:axId val="87131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6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456-0C93-4485-B7DC-B6AE5765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B3A-C82C-43D5-BA6D-42C50355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672-4AF3-4475-B137-952ABF77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63D-D6D9-4780-918C-2BF734FA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D75-C57A-448C-897D-2FD3BE14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6C9-08DD-4D07-8055-826039F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6B8-F8AD-44E4-B813-93BAFDB1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CDE-6306-4B0E-8162-C8ACF6CA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4F5-EDE5-4B79-BDA4-7D04D6F9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189-1208-4629-AA05-10B11707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633-DDFD-41E1-B5E4-44FC013D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713-F046-48D5-A023-5794DE1C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5542D-476A-4C25-942B-58776073BC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