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99675"/>
        <c:axId val="36728671"/>
      </c:barChart>
      <c:catAx>
        <c:axId val="22299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28671"/>
        <c:crosses val="autoZero"/>
        <c:auto val="1"/>
        <c:lblAlgn val="ctr"/>
        <c:lblOffset val="100"/>
        <c:noMultiLvlLbl val="0"/>
      </c:catAx>
      <c:valAx>
        <c:axId val="36728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99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315-1E69-49BB-B7E3-0469E599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189-01FF-4343-BC37-5F3486E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C09-3EF2-46CD-8C00-E36E1485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32D-379F-40AC-958F-28ABFEED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0A7-8960-4446-851D-D59B1F3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EBA-7904-4404-9063-4E7F716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37F-C89A-448F-948F-CC6015FD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157-07B6-4C57-A601-35AC344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D06-8D68-49BF-841C-E262E6B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895-C39A-46FC-8E8B-29B7441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943-9C40-407D-BCD1-64898F8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381-E736-4AFF-A5B5-CCCA680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5433E-2C0C-4ACC-B60D-3C117EB63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