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92381"/>
        <c:axId val="54753391"/>
      </c:barChart>
      <c:catAx>
        <c:axId val="20692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53391"/>
        <c:crosses val="autoZero"/>
        <c:auto val="1"/>
        <c:lblAlgn val="ctr"/>
        <c:lblOffset val="100"/>
        <c:noMultiLvlLbl val="0"/>
      </c:catAx>
      <c:valAx>
        <c:axId val="54753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2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EE2-521A-450B-B6F7-FB8A4C4D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F52-A564-4FA8-B0B4-8289F7E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BE-F967-42F5-B044-387962E5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73C-7FAF-4501-9115-DA32CAA8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0A9-5383-4446-8D96-AAE5DAE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AC1-B021-41CF-9AEC-8B41367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373-0C6E-4653-9DB7-82671A88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44F-4E54-4EAB-BF54-99ADE178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015-CA4D-4C44-ACEF-4FD01D6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43C-5740-488D-806E-378455B9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063-724A-4E48-8CFA-CF9B972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6C2-0FC0-4DB0-97D1-3DAB79D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D574-6FDD-4D49-AB16-256A7CECB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