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458472"/>
        <c:axId val="45260580"/>
      </c:barChart>
      <c:catAx>
        <c:axId val="654584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260580"/>
        <c:crosses val="autoZero"/>
        <c:auto val="1"/>
        <c:lblAlgn val="ctr"/>
        <c:lblOffset val="100"/>
        <c:noMultiLvlLbl val="0"/>
      </c:catAx>
      <c:valAx>
        <c:axId val="452605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4584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E939-DB19-425A-821C-B2FD1C15A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EFA9-8607-413C-9507-ACDCE752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7F23-C44E-4664-B649-B42F133F5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1C99-C460-4AC8-8096-2D6154901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2863-3D49-4356-94D6-C2D6FC07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73FA-3036-4BDB-81D8-EFBF9133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6436-742F-42B6-B177-931AC58F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9C85-1210-410C-8022-48AB3452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A2DF-A9C6-4996-B14A-DC92BAF8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F855-CD6E-4F73-818D-2D6620B7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6B2B-FB62-452C-9F46-C5745B31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42B6-E234-426F-B351-C6E1BE1D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79E88F-25AA-4333-9901-04F43CE891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