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76"/>
        <c:axId val="38541798"/>
      </c:barChart>
      <c:catAx>
        <c:axId val="96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41798"/>
        <c:crosses val="autoZero"/>
        <c:auto val="1"/>
        <c:lblAlgn val="ctr"/>
        <c:lblOffset val="100"/>
        <c:noMultiLvlLbl val="0"/>
      </c:catAx>
      <c:valAx>
        <c:axId val="38541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7E3-4131-4FE6-B534-54180D74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96C-CF81-42C9-ACB9-7A92DA6B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97A-F95D-4B18-BA00-3FB92E02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D00-8B05-43AC-851A-A7438BCD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CF2-6BA2-45E2-9103-3F0DEE4B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0E7-2F6C-4A35-A667-2CB97E8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B98-C341-4556-B783-99E999BE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E4D-139C-4A6C-86EF-342AF8A3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C8C-D928-4C9F-A654-3F2F242C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CE0-A2DD-42F7-9485-D8E4A5B4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DB3-AA80-4E3B-9991-AE6566B5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9E2-5290-4C8D-A816-16F5080D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B8B06-CC7A-4B2A-A089-B4769AAD6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